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EDA-8382-4F4D-8F7B-98E5701A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897-BBFF-4108-BB4F-CD3D26B8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B03-C278-4B34-A0D0-8A527CAF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B21-4B90-41F6-8D3B-86BF8B6F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C94-F47B-4DDB-AF79-7D9E7DC3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DFA-DFA9-4201-9014-ECC9AEC7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503-E349-46D4-BB3C-83CC4A07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4CB-C765-4896-8B0F-081367F9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400-B70B-4F93-BCE4-D40BBF84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698-CB6A-4EC7-B3D4-0A8C25BE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000-10D5-49CE-A0FA-1F04630F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94F-C6E5-4756-9079-FCD269E4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86E9-FC14-4B19-B1F3-03B520A4B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520" y="8380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 Actividad In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ósito # 46: ¿Qué pasó en tus vacacione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El baloncest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Sigan el modelo. (follow the model) textbook Pg 12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1. ¿Jugó Pablo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A ver. Pablo, ¿jugaste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2. ¿Jugó Pablo (al) baloncesto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A ver. Pablo, ¿jugaste (al) baloncesto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3. ¿Pasó el balón a un amigo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A ver. Pablo, ¿driblaste con el balón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4. ¿Tiró el balón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A ver. Pablo, ¿tiraste el balón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5. ¿Encestó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A ver. Pablo, ¿encestaste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6. ¿Marcó un tanto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A ver. Pablo, ¿marcaste un tanto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4920" y="152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e llamo _______________ Clase 7IM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 fecha es el 2do de marzo del 2012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T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nd your family spent a day at the beach. Write one paragraph describing five activities that you and your family did. You must use the past ten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pian y contestan las pregunta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t1.gstatic.com/images?q=tbn:ANd9GcSLD0A6kkcU2HuWYGa-EflSlg_FINKypfNUaZujTT42VNNpkHjJdCHli5RmHw"/>
          <p:cNvPicPr/>
          <p:nvPr/>
        </p:nvPicPr>
        <p:blipFill>
          <a:blip r:embed="rId1"/>
          <a:stretch/>
        </p:blipFill>
        <p:spPr>
          <a:xfrm>
            <a:off x="5715000" y="1600200"/>
            <a:ext cx="304812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457200" y="990720"/>
            <a:ext cx="4876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. ¿Dónde jugaron los tenistas (al) ten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tenistas jugaron en una cancha li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.¿Jugaron singles o do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ugaron si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. ¿Cuántas personas hay en la cancha cuando juegan sing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uando juegan singles hay do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4. ¿Golpearon los tenistas la pelo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í, los tenistas golpearon la pel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5.¿La pelota tiene que pasar por encima de la 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í, la pelota tiene que pasar por encima de la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ian y contestan las pregunt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Answer about yoursel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. Anoche, ¿a qué hora llegaste a ca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noche llegué a las seis de la tar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2. ¿Preparaste la comid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o preparé la comi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3. ¿Estudiast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í yo estudi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4. ¿Miraste la televisió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o miré la televis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5. ¿Escuchaste CD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 escuché C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6. ¿Con quién hablast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Yo hablé con mi mam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7. ¿Le hablaste por teléfon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í, hablé por teléfon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book Pg. 123 Ex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book Pg 126 Ex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 amigos y yo bailamos durante la fie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 amigos y yo cantamos durante la fie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 amigos y yo tomamos un refresco durante la fie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 amigos y yo tomamos fotos durante la fie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 amigos y yo escuchamos musica durante la fie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book Pg 126 Ex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yer yo _______ al estadio y ________ a jugar fútbol. _______  muy bien. No ______ el balón con las manos. Lo _______ con el pie y con la cabeza. _______tres ta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286000" y="1600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lleg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715000" y="1600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empec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0574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Jug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59436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to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02920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lanc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32767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Mar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ien y contesten las pregun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1. ¿Compraste un traje de baño a la play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í compré un traje de baño a la play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2.¿Llevaste el traje de baño a la play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No, yo no llevé el traje de baño a la play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3.¿Nadast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í nad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4. ¿Esquiaste en el agua tambié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No, yo no nadé en el agua tambié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5. ¿Tomaste el so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í, tomé el so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book Pg 127 Ex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illustration. Work with a classmate, asking and answering questions about what these Spanish friends did at the beach in Torremolin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rs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practice our convers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have 3 minutes to organize your po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group will present their dialo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16:48Z</dcterms:created>
  <dc:creator>Sherice</dc:creator>
  <dc:description/>
  <dc:language>en-US</dc:language>
  <cp:lastModifiedBy>Sherice</cp:lastModifiedBy>
  <dcterms:modified xsi:type="dcterms:W3CDTF">2012-03-05T14:12:03Z</dcterms:modified>
  <cp:revision>4</cp:revision>
  <dc:subject/>
  <dc:title>Slide 1</dc:title>
</cp:coreProperties>
</file>